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3D7-3F85-41D0-918F-BF124FC5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20B-F720-4A5C-8549-FDDDD15D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3419-606B-4C5C-B130-76994767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DC984-0030-4BBF-8E6A-90EEA20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13BEF-1F5C-45F0-8579-D2103B6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82AB8-8AE9-4E57-ADC6-F7247B9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5178-2BAA-4D84-8D0A-EA05EC7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CC229-CD05-4574-9254-B62ADE0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195E3-F8BD-4A10-BFDC-42BFD4E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56F7C-7103-4730-82A9-F36579B8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6A463-0E66-43A0-9C09-0CFD5475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68A-575F-4B06-B00F-ED82257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25C-84F0-4913-8D2E-22606118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75A-20CA-4490-9291-25FDAE7B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F6DB-D5D9-47BE-AB4D-52E3111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DD5-48A0-474C-98B5-1C0D578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5FA-4519-4AA0-BB87-8223F463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0E0-9145-435D-AF7D-278F8F7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22C2-44D2-4BC7-AE49-AB66EDC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C63-E6D6-4E1B-A6F3-4233B91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97C-9E5A-466C-8718-EC40658F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ACBE-987F-49CE-9DB4-D22FEFF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5AE9-DAC8-4DC0-BF71-A4A622E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B3C-1E97-40CF-985F-191C8DD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4482-4764-4C04-AF39-90EA20B2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F4EE-849E-484F-9E0A-3694FD73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C962-7F5E-479E-8DB5-2507D842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FA24-AEB7-4951-ACED-B447F0D1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D2DC-D08B-4175-B482-0251B26A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0D70-3ADA-4078-BDD4-EE6AC28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F5D5-3695-406B-B67A-2C803D1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8EB-4E0C-4EFC-B25F-5A0F628A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B31F-4217-420D-BE20-5D9B9E5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7676-8B5C-4637-9CFC-0CA1229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5122-CFA4-4942-A6CD-C26CFFE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EDD4-8084-436B-9687-57321FE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D976-4062-4A71-A740-8956BA8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6AC0-31F9-4CA6-BD68-972593EB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27CC-5E28-4215-9D01-C21BFEAA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69A1-0CE4-4943-B42D-F0777A90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FECC-A2C5-4B15-8F76-0ED04CB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7159-108C-44AD-A797-FD3489A9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128-5D10-4B30-9245-F07F1D4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327F-E4DF-4FED-88C5-496963B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C73B-A02C-492D-A4D1-372B69D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99B5-5D52-4AD2-9550-6ECBDCE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5B8C-AB44-4B07-AD62-393FAF9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723A1-2884-46F6-9E9F-E0CEDEC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7C90-459C-41DE-A7B6-2248001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BE5F-DE0E-46FE-A4F3-F1D6063A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24E9-9B11-406E-BCE4-C81B53A1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9D47-0B34-421D-A3B9-EC71CC8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A7DA-D6D3-4F24-9C01-CB4A634B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D81-54E3-4800-BCFD-83DF469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2C38-D03B-49C8-AF34-546405B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AE02-B1B4-4B9C-8F52-BFAFEF9E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4CA4D-E4B1-48E3-B6D7-E504E6C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EC45-E5D3-4A56-B1C1-040A432A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9715-9E40-4130-8707-A9D0CF08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C9DF-292D-4C76-AAC2-66B0D72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720A-89D8-4484-B953-5C4720E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5775-85F5-4AF9-8B5F-93325E6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D4E6-EED4-4650-98A3-B015A45E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4337-301D-4C19-8ECA-248E55F4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FED-02D7-4B8A-8753-CC99FCE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E469-18C0-43F3-9DEB-AD1BDE3A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763B-32FB-4A03-91CF-FE2F3C39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86A7-98C4-46C2-A131-8D31185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FD5E-5874-423D-864A-AB979CC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1953-8073-4421-A6C2-C02A75BB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1F769-32E0-4CB9-B0EC-05DBF769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69E0-D7F9-48A0-ADDE-BB09109E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87C9-B248-465F-BBF0-F951FE7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7CC1-08FE-4761-810E-62B221F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0F86-F3E3-40FB-9E50-8361B67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F2E-250F-45F6-AB86-E91BB5A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39B1-3B40-449F-A879-782FD9E0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F1ED-6CB1-42A0-9838-49E5D4A1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5E5B-FCD0-4E1F-8A62-49D2815C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7E3A9-9DE5-4856-AE33-672A60D8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81E5-1D59-4C90-BDA9-1A4A017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981D-B4C3-4890-9855-2391B683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723F-E344-4DC8-94F3-1EC601B1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DF05-DC03-4683-856A-7EF9569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D680-788A-483D-9542-627436A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A2002-9B72-44D8-A0DB-3378414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1BC-322C-4285-8246-5E264EF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789A-3201-4A79-94A1-9B152A8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510E-8848-4957-83FB-12646A7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A22B4-023D-43DD-B878-D850DBD7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5BF2-BCCF-40E4-B2B0-67BC7C03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0C575-35D8-449A-AD1B-2C238F66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E4FA-4B19-4132-A472-E29DC6D0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B65E-D5BF-42FD-A4B2-07486D3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6D8AF-F6CE-40B4-9827-76EAB63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130D-2102-406D-82F3-9E7580F7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2682D-1747-4063-8703-9C6D11C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B81-5086-41F0-A084-A1453FC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3469F-3CD6-47A8-9013-F941DB4D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13C0-4330-49BD-9A55-103F29A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836C-5914-445D-ADB7-0D22A6A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D500C-F94A-43F3-84D0-12B1014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EEDE-FF5D-4E87-B75E-1424949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CEB8-89DE-4826-90D9-F6A0B7C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FCB9-0895-4B82-9A5D-0B9CD4E4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47BC1-3BAC-4B6E-A3AD-EAAEBC3C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72EE-AF74-47ED-9724-2274F03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33883-AE27-4F3B-8459-ADDA2C2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AE8F-3802-43D5-BC6F-6DA16D28F69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5F93-72E5-4BDD-A846-2465C5DCB9A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4C7C-A407-4F27-8B8D-E7F00E9AF7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2E2-1E73-4F20-AA21-0A5B6E154AB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DB9-89E8-4898-A7DA-51CF98DF278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A66-02AC-4D08-A773-0C8C96235CB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17CC-75EB-4965-A005-5134651F7EF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6E4-2ED5-4DCB-9E89-AC1D8F6D457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2D28-E4CD-42FB-8105-B54378E67CC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85840" y="1974960"/>
            <a:ext cx="8638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this project presents a new system configuration of the front-end rectifier stage for a hybrid wind/photovoltaic energy system. This configuration allows the two sources to supply the load separately or simultaneously depending on the availability of the energy sourc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34"/>
          <p:cNvGrpSpPr/>
          <p:nvPr/>
        </p:nvGrpSpPr>
        <p:grpSpPr>
          <a:xfrm>
            <a:off x="1905120" y="1828800"/>
            <a:ext cx="5410080" cy="3886200"/>
            <a:chOff x="1905120" y="1828800"/>
            <a:chExt cx="5410080" cy="3886200"/>
          </a:xfrm>
        </p:grpSpPr>
        <p:grpSp>
          <p:nvGrpSpPr>
            <p:cNvPr id="404" name="Group 23"/>
            <p:cNvGrpSpPr/>
            <p:nvPr/>
          </p:nvGrpSpPr>
          <p:grpSpPr>
            <a:xfrm>
              <a:off x="1905120" y="1828800"/>
              <a:ext cx="5410080" cy="3886200"/>
              <a:chOff x="1905120" y="1828800"/>
              <a:chExt cx="5410080" cy="3886200"/>
            </a:xfrm>
          </p:grpSpPr>
          <p:sp>
            <p:nvSpPr>
              <p:cNvPr id="405" name="Rectangle 3"/>
              <p:cNvSpPr/>
              <p:nvPr/>
            </p:nvSpPr>
            <p:spPr>
              <a:xfrm>
                <a:off x="1905120" y="2894040"/>
                <a:ext cx="10112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IC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OLLER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"/>
              <p:cNvSpPr/>
              <p:nvPr/>
            </p:nvSpPr>
            <p:spPr>
              <a:xfrm>
                <a:off x="3270240" y="2894040"/>
                <a:ext cx="9014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river Un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5"/>
              <p:cNvSpPr/>
              <p:nvPr/>
            </p:nvSpPr>
            <p:spPr>
              <a:xfrm>
                <a:off x="4837320" y="4837320"/>
                <a:ext cx="1214280" cy="877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 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6"/>
              <p:cNvSpPr/>
              <p:nvPr/>
            </p:nvSpPr>
            <p:spPr>
              <a:xfrm>
                <a:off x="1905120" y="189036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-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"/>
              <p:cNvSpPr/>
              <p:nvPr/>
            </p:nvSpPr>
            <p:spPr>
              <a:xfrm>
                <a:off x="3219480" y="1882440"/>
                <a:ext cx="95076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 –Dc rectifi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8"/>
              <p:cNvSpPr/>
              <p:nvPr/>
            </p:nvSpPr>
            <p:spPr>
              <a:xfrm>
                <a:off x="4829400" y="1828800"/>
                <a:ext cx="1170000" cy="814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9"/>
              <p:cNvSpPr/>
              <p:nvPr/>
            </p:nvSpPr>
            <p:spPr>
              <a:xfrm>
                <a:off x="4829400" y="2854080"/>
                <a:ext cx="1170000" cy="792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ac i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0"/>
              <p:cNvSpPr/>
              <p:nvPr/>
            </p:nvSpPr>
            <p:spPr>
              <a:xfrm>
                <a:off x="4837320" y="3833640"/>
                <a:ext cx="1214280" cy="801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 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6437520" y="289404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a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ight Arrow 15"/>
              <p:cNvSpPr/>
              <p:nvPr/>
            </p:nvSpPr>
            <p:spPr>
              <a:xfrm>
                <a:off x="4172040" y="3270240"/>
                <a:ext cx="657000" cy="177480"/>
              </a:xfrm>
              <a:prstGeom prst="rightArrow">
                <a:avLst>
                  <a:gd name="adj1" fmla="val 50000"/>
                  <a:gd name="adj2" fmla="val 58406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ight Arrow 17"/>
              <p:cNvSpPr/>
              <p:nvPr/>
            </p:nvSpPr>
            <p:spPr>
              <a:xfrm>
                <a:off x="2782800" y="2266920"/>
                <a:ext cx="438120" cy="155520"/>
              </a:xfrm>
              <a:prstGeom prst="rightArrow">
                <a:avLst>
                  <a:gd name="adj1" fmla="val 50000"/>
                  <a:gd name="adj2" fmla="val 583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ight Arrow 18"/>
              <p:cNvSpPr/>
              <p:nvPr/>
            </p:nvSpPr>
            <p:spPr>
              <a:xfrm>
                <a:off x="5999400" y="3208320"/>
                <a:ext cx="438120" cy="185400"/>
              </a:xfrm>
              <a:prstGeom prst="rightArrow">
                <a:avLst>
                  <a:gd name="adj1" fmla="val 50000"/>
                  <a:gd name="adj2" fmla="val 58421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Up Arrow 21"/>
              <p:cNvSpPr/>
              <p:nvPr/>
            </p:nvSpPr>
            <p:spPr>
              <a:xfrm>
                <a:off x="5343480" y="4635720"/>
                <a:ext cx="150480" cy="191880"/>
              </a:xfrm>
              <a:prstGeom prst="upArrow">
                <a:avLst>
                  <a:gd name="adj1" fmla="val 50000"/>
                  <a:gd name="adj2" fmla="val 4291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Up Arrow 22"/>
              <p:cNvSpPr/>
              <p:nvPr/>
            </p:nvSpPr>
            <p:spPr>
              <a:xfrm>
                <a:off x="5343480" y="3646440"/>
                <a:ext cx="150480" cy="179280"/>
              </a:xfrm>
              <a:prstGeom prst="upArrow">
                <a:avLst>
                  <a:gd name="adj1" fmla="val 50000"/>
                  <a:gd name="adj2" fmla="val 42934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ight Arrow 42"/>
              <p:cNvSpPr/>
              <p:nvPr/>
            </p:nvSpPr>
            <p:spPr>
              <a:xfrm>
                <a:off x="4464000" y="4149720"/>
                <a:ext cx="372960" cy="161640"/>
              </a:xfrm>
              <a:prstGeom prst="rightArrow">
                <a:avLst>
                  <a:gd name="adj1" fmla="val 50000"/>
                  <a:gd name="adj2" fmla="val 58410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Down Arrow 45"/>
              <p:cNvSpPr/>
              <p:nvPr/>
            </p:nvSpPr>
            <p:spPr>
              <a:xfrm>
                <a:off x="5343480" y="2643120"/>
                <a:ext cx="150480" cy="210960"/>
              </a:xfrm>
              <a:prstGeom prst="downArrow">
                <a:avLst>
                  <a:gd name="adj1" fmla="val 50000"/>
                  <a:gd name="adj2" fmla="val 4292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3"/>
            <p:cNvGrpSpPr/>
            <p:nvPr/>
          </p:nvGrpSpPr>
          <p:grpSpPr>
            <a:xfrm>
              <a:off x="2259000" y="2260440"/>
              <a:ext cx="2578680" cy="3184560"/>
              <a:chOff x="2259000" y="2260440"/>
              <a:chExt cx="2578680" cy="3184560"/>
            </a:xfrm>
          </p:grpSpPr>
          <p:sp>
            <p:nvSpPr>
              <p:cNvPr id="422" name="Bent Arrow 28"/>
              <p:cNvSpPr/>
              <p:nvPr/>
            </p:nvSpPr>
            <p:spPr>
              <a:xfrm rot="16200000">
                <a:off x="2684520" y="3291840"/>
                <a:ext cx="1727280" cy="25786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ight Arrow 29"/>
              <p:cNvSpPr/>
              <p:nvPr/>
            </p:nvSpPr>
            <p:spPr>
              <a:xfrm>
                <a:off x="4180320" y="2260440"/>
                <a:ext cx="657360" cy="161640"/>
              </a:xfrm>
              <a:prstGeom prst="rightArrow">
                <a:avLst>
                  <a:gd name="adj1" fmla="val 50000"/>
                  <a:gd name="adj2" fmla="val 469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Bent Arrow 31"/>
              <p:cNvSpPr/>
              <p:nvPr/>
            </p:nvSpPr>
            <p:spPr>
              <a:xfrm>
                <a:off x="4381920" y="2422080"/>
                <a:ext cx="455760" cy="18352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ight Arrow 32"/>
              <p:cNvSpPr/>
              <p:nvPr/>
            </p:nvSpPr>
            <p:spPr>
              <a:xfrm>
                <a:off x="2916360" y="3232080"/>
                <a:ext cx="353880" cy="161640"/>
              </a:xfrm>
              <a:prstGeom prst="rightArrow">
                <a:avLst>
                  <a:gd name="adj1" fmla="val 50000"/>
                  <a:gd name="adj2" fmla="val 4690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ow  operating co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asy to charg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igh   power  qual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tributed Generation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Application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tant Speed and Variable Speed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Win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nergy Conversion System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hotovoltaic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Energy Syste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. S.K. Kim, J.H Jeon, C.H. Cho, J.B. Ahn, and S.H. Kwon, “Dynami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Modeling and Control of a Grid-Connected Hybrid Generation Syste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with Versatile Power Transfer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EEE Transactions on Industria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lectronics, vol. 55, pp. 1677-1688, April 2008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. D. Das, R. Esmaili, L. Xu, D. Nichols, “An Optimal Design of a Gri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onnected Hybrid Wind/Photovoltaic/Fuel Cell System for Distribu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ergy Production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Proc. IEEE Industrial Electronics Confer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p. 2499-2504, Nov. 2005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1:17:45Z</dcterms:created>
  <dc:creator/>
  <dc:description>Electrical Projects</dc:description>
  <dc:language>en-US</dc:language>
  <cp:lastModifiedBy>Brigade</cp:lastModifiedBy>
  <dcterms:modified xsi:type="dcterms:W3CDTF">2011-08-23T17:25:38Z</dcterms:modified>
  <cp:revision>0</cp:revision>
  <dc:subject>Electrical Projects</dc:subject>
  <dc:title>EEE IEEE Projects</dc:title>
</cp:coreProperties>
</file>